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B25-B6A0-45F1-85CF-D29F7B04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966-F1FC-4981-A560-DAAC068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67A-2206-4DDB-91CE-6569A0F6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655-48F0-4C1E-AEFD-086F0529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C65-085F-4B31-BD4A-502E4C1A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263-E2B5-4290-B64D-88F3565D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02F-E596-488E-86E9-5E1C8F5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B19-A837-4641-93E2-2E7B405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DB8-1C40-4D60-BAD7-9EB11859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EAB-8B7A-4A86-AA23-EE63710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2D4-DA14-479B-A9F4-C8AACD9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C14-67F3-4B41-BFD8-0FB7E0E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9A23-F267-4197-A816-45AE9395329F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Wolfgang Klebsch</cp:lastModifiedBy>
  <dcterms:modified xsi:type="dcterms:W3CDTF">2006-02-10T08:10:59Z</dcterms:modified>
  <cp:revision>59</cp:revision>
  <dc:subject/>
  <dc:title>Jerry - DL</dc:title>
</cp:coreProperties>
</file>